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420-6EB6-4F6E-9B95-CA6E6D15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D5E-E3A1-40A6-849B-FEF8325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DE1-6127-42A5-BBC8-B0012A5F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8E1-01DB-457A-824D-2FBFA28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974-277D-446E-961B-AF8B8356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CA4-6EC2-41A5-A51A-188DFEFC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208-DEDB-4D9A-A161-CD303829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41B-BA6C-4A4E-B64A-C28325AE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E45-6E07-4196-A095-BC98DB9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034-3805-4A85-83EA-F9C51B0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B16-325A-4206-8686-ED7612F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152-C38F-4022-A7A9-F893CE3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C5A-E7B8-4C65-B798-EFA93F98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th Century British Poetry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s over 280 po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poems reflect the many concerns and techniques used during the centur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tish poetry movements: The Movement, The British Poetry Revival, and The Martian Po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ovement consisted of a group of poets that created works in an anti-romantic and rational tone. The term "The Movement" was created by J.D. Scott in 1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ritish Poetry Revival, occurring from the 1960s to the 1970s, was a counter to The Movement where poets took a more conservative approach to po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an poetry took place during the 1970s and the 1980s. It was a small movement that tried to describe things in a different way with a great amount of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57:12Z</dcterms:created>
  <dc:creator>William  Yen</dc:creator>
  <dc:description/>
  <dc:language>en-US</dc:language>
  <cp:lastModifiedBy>William  Yen</cp:lastModifiedBy>
  <dcterms:modified xsi:type="dcterms:W3CDTF">2009-12-06T19:04:07Z</dcterms:modified>
  <cp:revision>1</cp:revision>
  <dc:subject/>
  <dc:title>20th Century British Poetry Movements</dc:title>
</cp:coreProperties>
</file>